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D3C-E9AF-4152-BFC0-A3758759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EE3-B388-4F28-A72B-894F074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A4C-A7F4-434D-9F5D-93670C2E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06B-ED21-4575-8717-E65BA251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065-9087-40B1-8B9E-FB8F2AB4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0165-AA4A-4D89-A8D3-77EB1EE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A94-0758-4431-82B9-03AF7EF3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57B4-5445-48DB-80C6-2B272D1C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CA8F-0B4A-4642-B82F-76F35822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16E0-E6ED-4707-AD1C-C576FCA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C2B4-46A9-41EC-932B-2CE6086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057-D036-42D5-A52B-F9424EBE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5DFB-3475-4DD9-BAC5-D199B99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114-9035-45D6-A777-A5D67FE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8EC-FBE4-4B7A-8CC1-0078DCD8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0C48-47F4-485F-B3FF-20781AA0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128E-99FE-4DD1-8CA3-0790793A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858-72F9-455F-84AA-C3AB91DC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A39-F75E-497A-9104-F97D3C1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070-9E07-4083-90B2-70EBF13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17B-FE8F-4A6D-8117-3633CFE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17E-6CF8-41BB-9125-79DE8E4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5CA-8342-471D-8D61-2363090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68A-01CD-485F-BB0F-8AC3589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B2EC-3B9D-44BC-9B5C-8874598DFC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BE34-6640-4C76-84E7-A4AFA55566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Give Us A King”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Story of Solomon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Quarter 5, Lesson 1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Kings 5-7, Pages 117-12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Courtyard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rrounded by a wal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urniture and vessels made of bronz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reat sea of cast bronz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en basins of wa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wo huge pillars in front of the templ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ny items molded in the clay of the plains of the Jord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304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57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of Dav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685800"/>
            <a:ext cx="175284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05720" y="1066680"/>
            <a:ext cx="3808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Bible History In Review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lood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Exodu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ilderness Wander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onquest of the Lan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403848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ud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United Kingd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Sau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DAV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o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iram, king of Tyre, sent congratulations to Solom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olomon made a request to Hiram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will build a great temple for Jehovah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end me cedar logs and timb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Our men will work togeth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will supply the food for the worker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 need a skilled craftsman to work with metals, lumber and fine cloth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iram’s response, he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joiced in hearing from Solomo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ould send a skill craftsman whose mother was an Israelit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ould send the lumber needed via raft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return, Solomon was to send wheat, barley, olive oil, and wine as compens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Solomon Prepares To Build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5:1-18; 7:13-14; 2 Chron. 2:1-18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ngs went well between the two m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lomon supplied the food and 30,000 men to work in the mountai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3,300 supervisors of the wor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lomon figured the number of aliens and put them to work; 70,000 transporters; 80,000 hewe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tones and timbers prepare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w ready for the work to bega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ahoma"/>
              </a:rPr>
              <a:t>The Construction of the Temple</a:t>
            </a:r>
            <a:br>
              <a:rPr sz="3600"/>
            </a:br>
            <a:r>
              <a:rPr b="0" i="1" lang="en-US" sz="2800" spc="-1" strike="noStrike">
                <a:solidFill>
                  <a:srgbClr val="ffcc66"/>
                </a:solidFill>
                <a:latin typeface="Tahoma"/>
              </a:rPr>
              <a:t>1 Kings 6:1 - 7:50; 2 Chron. 3:1 - 4:22</a:t>
            </a:r>
            <a:endParaRPr b="0" i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ork started in fourth year of Solomon’s reig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ted on the threshing floor of Araunah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cated where Abraham offered Isaac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ook 7 years to finish the build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emember God’s covenant with the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me features of the tabernacle retained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t was a magnificent struct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Exterior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mensions = 30 feet wide by 45 feet high by 90 feet dee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ree floors of rooms attached to three sides of the build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orch was 30 x 45 with two great pillars on each side of the huge door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o noise made at the site for fashioning the timber and ston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Inside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outer room (30 x 45 x 60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ivided into two roo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one walls covered with cedar paneling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oors covered with pine wood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loors, walls and ceilings covered with gold plating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tained windows, two doors, ten tables and ten lampstands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ahoma"/>
              </a:rPr>
              <a:t>The Inside of the Temple</a:t>
            </a:r>
            <a:endParaRPr b="0" i="1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inner room (30 x 30 x 30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alls, ceiling and floor covered with gold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wo huge cherubi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rk of the covenant placed in front of the cherubim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e wall between the rooms had doors, a veil and a gold cha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e altar of incense located in the inner room or close to 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09:40Z</dcterms:created>
  <dc:creator>Don Vines</dc:creator>
  <dc:description/>
  <dc:language>en-US</dc:language>
  <cp:lastModifiedBy>Frank D Vines</cp:lastModifiedBy>
  <dcterms:modified xsi:type="dcterms:W3CDTF">2005-08-10T22:48:49Z</dcterms:modified>
  <cp:revision>16</cp:revision>
  <dc:subject/>
  <dc:title>“Give Us A King” The Story of Solomon</dc:title>
</cp:coreProperties>
</file>